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7FADAC-38C9-4C13-B953-E21416D11D6F}"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9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54C1F5-1479-44B5-AD40-ECD0A1734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c: 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s knowledge and responds appropriately to the cultural background and learning needs of non-native English speaker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2F4B8-2F6D-4273-94FB-EA57394CA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c: 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criteria</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F49924-90EE-4AB3-A144-AB6D378BF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c: 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standard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has experienced online learning from the perspective of a student</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86EFE6-3D7A-4A48-BEE8-E02750F2F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d: the teacher provides online leadership in a manner th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ll one criteria previously</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0469FA-3200-4C49-85C4-3A69C9B103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d: the teacher provides online leadership in a manner th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students who are not particip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ists in a consistent and reasonable manner until students are successful</a:t>
            </a: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54757D-A296-410B-91D7-0DE1B715E4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d: the teacher provides online leadership in a manner th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0D80E3-4247-4739-AB42-ADADE73A2F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e: 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30B37D-BF60-44BA-8127-31DB002B4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f: was folded into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standard 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understands and is responsive to students with special needs in the online class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075CDC-287C-4B67-97E5-0FD102003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68A47C-2823-4F64-9D89-36F105C4F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45792C-CA06-4549-B0EB-454EA8A71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 </a:t>
            </a:r>
            <a:r>
              <a:rPr b="0" lang="en-US" sz="1200" spc="-1" strike="noStrike">
                <a:solidFill>
                  <a:srgbClr val="000000"/>
                </a:solidFill>
                <a:latin typeface="Arial"/>
                <a:ea typeface="Arial"/>
              </a:rPr>
              <a:t>to provide a comprehensive list of standards that could be applied nationally to aid K-12 districts and organization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Quality Online Teaching and Online Teaching Evaluation for State Virtual Schools.</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3FECDA-7B52-44A6-9C75-AF8AD9404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standard 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733BCD-393A-4BE9-B9EC-1CFA2661A8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standard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 post testing</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CA8D03-DCF2-4494-A88E-85AE40B38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J,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es each </a:t>
            </a:r>
            <a:r>
              <a:rPr b="0" i="1" lang="en-US" sz="1200" spc="-1" strike="noStrike">
                <a:solidFill>
                  <a:srgbClr val="ff0000"/>
                </a:solidFill>
                <a:latin typeface="Calibri"/>
              </a:rPr>
              <a:t>student’s background </a:t>
            </a:r>
            <a:r>
              <a:rPr b="0" lang="en-US" sz="1200" spc="-1" strike="noStrike">
                <a:solidFill>
                  <a:srgbClr val="ff0000"/>
                </a:solidFill>
                <a:latin typeface="Calibri"/>
              </a:rPr>
              <a:t>and content knowledge </a:t>
            </a:r>
            <a:r>
              <a:rPr b="0" lang="en-US" sz="1200" spc="-1" strike="noStrike">
                <a:solidFill>
                  <a:srgbClr val="000000"/>
                </a:solidFill>
                <a:latin typeface="Calibri"/>
              </a:rPr>
              <a:t>and uses these data to plan instruction</a:t>
            </a: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C225F8-139D-487F-8A7B-162DA0FEB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J,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276415-E218-44FD-9F15-DBCD1C512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collaborates with colleag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works with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144134-8B4F-4AC1-9894-13DC2AD80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1DA812-3615-4A80-B426-2A1C99086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5C6FBB-E935-4298-83F7-98A1080BA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a:t>
            </a:r>
            <a:r>
              <a:rPr b="0" lang="en-US" sz="1200" spc="-1" strike="noStrike">
                <a:solidFill>
                  <a:srgbClr val="000000"/>
                </a:solidFill>
                <a:latin typeface="Arial"/>
                <a:ea typeface="Arial"/>
              </a:rPr>
              <a:t>A group of online education experts across the country…across the globe were gathered into a committee for discussion and deliberation on editing the teaching standard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ommittee met regularly throughout the months of May, June, July and August to refresh, clarify and refine the existing standard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ch standard was discussed one by one and suggestions were made and contemplat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ynchronous feedback was also applied using Google doc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2F28AA-68F1-437F-8005-307653A85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ie</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ABBD34-B929-4D5C-9F9F-80ED46D8D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ie (Sara-support)</a:t>
            </a: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F2836-4205-48FD-8051-EDD712AFF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ie (Sara support)</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979554-6D8C-44D5-B944-7C124115C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meets the professional teaching standards established by a state licensing agency or the teacher has academic credentials in the field in which he or she is teaching.</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4653BE-9DE9-4C02-9999-6D9CEB20A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b: The teacher has the prerequisite technology skills to teach on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s the ability to effectively use word-processing, spreadsheet and presentation softwar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s effectively use of internet browsers, email applications and appropriate online etiquet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tilizes synchronous and asynchronous tools effectively.</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48DB98-B75F-4156-9012-2ADDB160C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30506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3050640"/>
            <a:ext cx="8229600" cy="2629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3050640"/>
            <a:ext cx="82296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7251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3050640"/>
            <a:ext cx="8229600" cy="2629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30506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8FC4A-EDD2-4685-84B4-A9E3CEE24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3050640"/>
            <a:ext cx="8229600" cy="2629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02883-424B-41B3-94BA-42F31C0AE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3050640"/>
            <a:ext cx="82296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698D4-23C7-486B-8DD4-83E5EC0A2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9C465-090E-47B9-B11A-C2FA7590E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AC108-EAEA-4FDD-946F-AA1A9FA33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3050640"/>
            <a:ext cx="82296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7251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E0591-7E03-4409-A3D8-77448DD5B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35653-7592-4A67-BC86-62E720874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8E4FB-E1B2-42D1-B648-B4CF8D48E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91B05-A9EF-476A-82A9-1F41BCA98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30506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AD8EB-0F47-4222-B177-A92CC0221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7F9A5-BA12-411D-86AE-52425CDF7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D17C1-4EB7-46CF-BDC2-B60694ED5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3050640"/>
            <a:ext cx="8229600" cy="2629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3050640"/>
            <a:ext cx="82296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17251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4"/>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30506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5"/>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323964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4"/>
          <p:cNvSpPr>
            <a:spLocks noGrp="1"/>
          </p:cNvSpPr>
          <p:nvPr>
            <p:ph/>
          </p:nvPr>
        </p:nvSpPr>
        <p:spPr>
          <a:xfrm>
            <a:off x="602208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5"/>
          <p:cNvSpPr>
            <a:spLocks noGrp="1"/>
          </p:cNvSpPr>
          <p:nvPr>
            <p:ph/>
          </p:nvPr>
        </p:nvSpPr>
        <p:spPr>
          <a:xfrm>
            <a:off x="45720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6"/>
          <p:cNvSpPr>
            <a:spLocks noGrp="1"/>
          </p:cNvSpPr>
          <p:nvPr>
            <p:ph/>
          </p:nvPr>
        </p:nvSpPr>
        <p:spPr>
          <a:xfrm>
            <a:off x="323964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7"/>
          <p:cNvSpPr>
            <a:spLocks noGrp="1"/>
          </p:cNvSpPr>
          <p:nvPr>
            <p:ph/>
          </p:nvPr>
        </p:nvSpPr>
        <p:spPr>
          <a:xfrm>
            <a:off x="602208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3050640"/>
            <a:ext cx="8229600" cy="2629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3050640"/>
            <a:ext cx="82296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17251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4"/>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30506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3"/>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5"/>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7251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3"/>
          <p:cNvSpPr>
            <a:spLocks noGrp="1"/>
          </p:cNvSpPr>
          <p:nvPr>
            <p:ph/>
          </p:nvPr>
        </p:nvSpPr>
        <p:spPr>
          <a:xfrm>
            <a:off x="323964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4"/>
          <p:cNvSpPr>
            <a:spLocks noGrp="1"/>
          </p:cNvSpPr>
          <p:nvPr>
            <p:ph/>
          </p:nvPr>
        </p:nvSpPr>
        <p:spPr>
          <a:xfrm>
            <a:off x="602208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5"/>
          <p:cNvSpPr>
            <a:spLocks noGrp="1"/>
          </p:cNvSpPr>
          <p:nvPr>
            <p:ph/>
          </p:nvPr>
        </p:nvSpPr>
        <p:spPr>
          <a:xfrm>
            <a:off x="45720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1" name="PlaceHolder 6"/>
          <p:cNvSpPr>
            <a:spLocks noGrp="1"/>
          </p:cNvSpPr>
          <p:nvPr>
            <p:ph/>
          </p:nvPr>
        </p:nvSpPr>
        <p:spPr>
          <a:xfrm>
            <a:off x="323964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7"/>
          <p:cNvSpPr>
            <a:spLocks noGrp="1"/>
          </p:cNvSpPr>
          <p:nvPr>
            <p:ph/>
          </p:nvPr>
        </p:nvSpPr>
        <p:spPr>
          <a:xfrm>
            <a:off x="602208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3050640"/>
            <a:ext cx="8229600" cy="2629080"/>
          </a:xfrm>
          <a:prstGeom prst="rect">
            <a:avLst/>
          </a:prstGeom>
          <a:noFill/>
          <a:ln w="0">
            <a:noFill/>
          </a:ln>
        </p:spPr>
        <p:txBody>
          <a:bodyPr lIns="90000" rIns="90000" tIns="46800" bIns="46800" anchor="t">
            <a:normAutofit fontScale="63000"/>
          </a:bodyPr>
          <a:p>
            <a:pPr marL="216000" indent="-216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8000" indent="-18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8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3050640"/>
            <a:ext cx="8229600" cy="2629080"/>
          </a:xfrm>
          <a:prstGeom prst="rect">
            <a:avLst/>
          </a:prstGeom>
          <a:noFill/>
          <a:ln w="0">
            <a:noFill/>
          </a:ln>
        </p:spPr>
        <p:txBody>
          <a:bodyPr lIns="90000" rIns="90000" tIns="46800" bIns="46800" anchor="t">
            <a:normAutofit fontScale="63000"/>
          </a:bodyPr>
          <a:p>
            <a:pPr marL="216000" indent="-216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8000" indent="-18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8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3050640"/>
            <a:ext cx="8229600" cy="2629080"/>
          </a:xfrm>
          <a:prstGeom prst="rect">
            <a:avLst/>
          </a:prstGeom>
          <a:noFill/>
          <a:ln w="0">
            <a:noFill/>
          </a:ln>
        </p:spPr>
        <p:txBody>
          <a:bodyPr lIns="90000" rIns="90000" tIns="46800" bIns="46800" anchor="t">
            <a:normAutofit fontScale="63000"/>
          </a:bodyPr>
          <a:p>
            <a:pPr marL="216000" indent="-216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8000" indent="-18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8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F55640-9582-4515-8CBD-41D2882DD892}" type="datetime">
              <a:rPr b="0" lang="en-US" sz="1800" spc="-1" strike="noStrike">
                <a:solidFill>
                  <a:srgbClr val="000000"/>
                </a:solidFill>
                <a:latin typeface="Calibri"/>
              </a:rPr>
              <a:t>07/28/26</a:t>
            </a:fld>
            <a:endParaRPr b="0" lang="en-US" sz="1800" spc="-1" strike="noStrike">
              <a:solidFill>
                <a:srgbClr val="000000"/>
              </a:solidFill>
              <a:latin typeface="Times New Roman"/>
            </a:endParaRPr>
          </a:p>
        </p:txBody>
      </p:sp>
      <p:sp>
        <p:nvSpPr>
          <p:cNvPr id="7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4879B5-5510-45ED-9775-C04335E02ABC}"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3050640"/>
            <a:ext cx="8229600" cy="2629080"/>
          </a:xfrm>
          <a:prstGeom prst="rect">
            <a:avLst/>
          </a:prstGeom>
          <a:noFill/>
          <a:ln w="0">
            <a:noFill/>
          </a:ln>
        </p:spPr>
        <p:txBody>
          <a:bodyPr lIns="90000" rIns="90000" tIns="46800" bIns="46800" anchor="t">
            <a:normAutofit fontScale="63000"/>
          </a:bodyPr>
          <a:p>
            <a:pPr marL="216000" indent="-216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8000" indent="-18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8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 name="PlaceHolder 2"/>
          <p:cNvSpPr>
            <a:spLocks noGrp="1"/>
          </p:cNvSpPr>
          <p:nvPr>
            <p:ph type="body"/>
          </p:nvPr>
        </p:nvSpPr>
        <p:spPr>
          <a:xfrm>
            <a:off x="457200" y="3050640"/>
            <a:ext cx="8229600" cy="2629080"/>
          </a:xfrm>
          <a:prstGeom prst="rect">
            <a:avLst/>
          </a:prstGeom>
          <a:noFill/>
          <a:ln w="0">
            <a:noFill/>
          </a:ln>
        </p:spPr>
        <p:txBody>
          <a:bodyPr lIns="90000" rIns="90000" tIns="46800" bIns="46800" anchor="t">
            <a:normAutofit fontScale="63000"/>
          </a:bodyPr>
          <a:p>
            <a:pPr marL="216000" indent="-216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8000" indent="-18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8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2040" y="338040"/>
            <a:ext cx="8980200" cy="4391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600"/>
            </a:br>
            <a:br>
              <a:rPr sz="4600"/>
            </a:br>
            <a:r>
              <a:rPr b="0" lang="en-US" sz="4600" spc="-1" strike="noStrike">
                <a:solidFill>
                  <a:srgbClr val="ffffff"/>
                </a:solidFill>
                <a:latin typeface="Arial"/>
              </a:rPr>
              <a:t>iNACOL National Standards for Quality Online Teaching, </a:t>
            </a:r>
            <a:br>
              <a:rPr sz="4600"/>
            </a:br>
            <a:r>
              <a:rPr b="0" lang="en-US" sz="4600" spc="-1" strike="noStrike">
                <a:solidFill>
                  <a:srgbClr val="ffffff"/>
                </a:solidFill>
                <a:latin typeface="Arial"/>
              </a:rPr>
              <a:t>Version 2</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22"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C. The online teacher plans, designs, and incorporates strategies to encourage active learning, interaction, participation, and collaboration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Techniques to adjust communications to diverse perspec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Respond appropriately to the diverse backgrounds and learning needs of the stud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24"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C. The online teacher plans, designs, and incorporates strategies to encourage active learning, interaction, participation, and collaboration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The techniques and applications of  online instructional strategies, based on current research and pract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Use student-centered instructional strategies that are connected to real-world applications to engage students in lear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26"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C. The online teacher plans, designs, and incorporates strategies to encourage active learning, interaction, participation, and collaboration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The participation in an online course from a student-centered approa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Apply experiences as an online student and/or group to demonstrate the development and implementation of successful strategies for online teaching environments and to anticipate challenges and problems in the online classro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28" name=""/>
          <p:cNvGraphicFramePr/>
          <p:nvPr/>
        </p:nvGraphicFramePr>
        <p:xfrm>
          <a:off x="457200" y="2422440"/>
          <a:ext cx="8229600" cy="449100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D. The online teacher promotes student success through clear expectations, prompt responses, and regular feedb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6273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Establish and provide clear expectations of class interaction for both teacher and students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ea typeface="Geneva"/>
                        </a:rPr>
                        <a:t> </a:t>
                      </a:r>
                      <a:r>
                        <a:rPr b="0" lang="en-US" sz="1800" spc="-1" strike="noStrike">
                          <a:solidFill>
                            <a:srgbClr val="000000"/>
                          </a:solidFill>
                          <a:latin typeface="Calibri"/>
                          <a:ea typeface="Geneva"/>
                        </a:rPr>
                        <a:t>Provide a clear explanation of the assessment criteria for the course to student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ea typeface="Geneva"/>
                        </a:rPr>
                        <a:t>  </a:t>
                      </a:r>
                      <a:r>
                        <a:rPr b="0" lang="en-US" sz="1800" spc="-1" strike="noStrike">
                          <a:solidFill>
                            <a:srgbClr val="000000"/>
                          </a:solidFill>
                          <a:latin typeface="Calibri"/>
                          <a:ea typeface="Geneva"/>
                        </a:rPr>
                        <a:t>Provide a clear explanation of the expectations of teacher response time to student queri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ea typeface="Geneva"/>
                        </a:rPr>
                        <a:t> </a:t>
                      </a:r>
                      <a:r>
                        <a:rPr b="0" lang="en-US" sz="1800" spc="-1" strike="noStrike">
                          <a:solidFill>
                            <a:srgbClr val="000000"/>
                          </a:solidFill>
                          <a:latin typeface="Calibri"/>
                          <a:ea typeface="Geneva"/>
                        </a:rPr>
                        <a:t>Establish and implement criteria for appropriate online behavior for both teacher and stud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30"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D. The online teacher promotes student success through clear expectations, prompt responses, and regular feedb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A </a:t>
                      </a:r>
                      <a:r>
                        <a:rPr b="0" lang="en-US" sz="1800" spc="-1" strike="noStrike">
                          <a:solidFill>
                            <a:srgbClr val="ff0000"/>
                          </a:solidFill>
                          <a:latin typeface="Calibri"/>
                          <a:ea typeface="Geneva"/>
                        </a:rPr>
                        <a:t>variety of methods and tools </a:t>
                      </a:r>
                      <a:r>
                        <a:rPr b="0" lang="en-US" sz="1800" spc="-1" strike="noStrike">
                          <a:solidFill>
                            <a:srgbClr val="000000"/>
                          </a:solidFill>
                          <a:latin typeface="Calibri"/>
                          <a:ea typeface="Geneva"/>
                        </a:rPr>
                        <a:t>to </a:t>
                      </a:r>
                      <a:r>
                        <a:rPr b="0" lang="en-US" sz="1800" spc="-1" strike="noStrike">
                          <a:solidFill>
                            <a:srgbClr val="ff0000"/>
                          </a:solidFill>
                          <a:latin typeface="Calibri"/>
                          <a:ea typeface="Geneva"/>
                        </a:rPr>
                        <a:t>reach and engage </a:t>
                      </a:r>
                      <a:r>
                        <a:rPr b="0" lang="en-US" sz="1800" spc="-1" strike="noStrike">
                          <a:solidFill>
                            <a:srgbClr val="000000"/>
                          </a:solidFill>
                          <a:latin typeface="Calibri"/>
                          <a:ea typeface="Geneva"/>
                        </a:rPr>
                        <a:t>students who are </a:t>
                      </a:r>
                      <a:r>
                        <a:rPr b="0" lang="en-US" sz="1800" spc="-1" strike="noStrike">
                          <a:solidFill>
                            <a:srgbClr val="ff0000"/>
                          </a:solidFill>
                          <a:latin typeface="Calibri"/>
                          <a:ea typeface="Geneva"/>
                        </a:rPr>
                        <a:t>strugg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Use a variety of methods and tools to reach and engage students who are strugg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32"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D. The online teacher promotes student success through clear expectations, prompt responses, and regular feedb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process for aligning teacher and student expectations for the course, in gener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Orient students to teacher’s instructional methods and goals and invite students to provide feedback on their perceptions of how they are learning in a cour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34"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E. The online teacher models, guides, and encourages legal, ethical, and safe behavior related to technology u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responsibilities of </a:t>
                      </a:r>
                      <a:r>
                        <a:rPr b="0" lang="en-US" sz="1800" spc="-1" strike="noStrike">
                          <a:solidFill>
                            <a:srgbClr val="ff0000"/>
                          </a:solidFill>
                          <a:latin typeface="Calibri"/>
                          <a:ea typeface="Geneva"/>
                        </a:rPr>
                        <a:t>digital citizenship</a:t>
                      </a:r>
                      <a:r>
                        <a:rPr b="0" lang="en-US" sz="1800" spc="-1" strike="noStrike">
                          <a:solidFill>
                            <a:srgbClr val="000000"/>
                          </a:solidFill>
                          <a:latin typeface="Calibri"/>
                          <a:ea typeface="Geneva"/>
                        </a:rPr>
                        <a:t> </a:t>
                      </a:r>
                      <a:r>
                        <a:rPr b="0" lang="en-US" sz="1800" spc="-1" strike="noStrike">
                          <a:solidFill>
                            <a:srgbClr val="ff0000"/>
                          </a:solidFill>
                          <a:latin typeface="Calibri"/>
                          <a:ea typeface="Geneva"/>
                        </a:rPr>
                        <a:t>and techniques  </a:t>
                      </a:r>
                      <a:r>
                        <a:rPr b="0" lang="en-US" sz="1800" spc="-1" strike="noStrike">
                          <a:solidFill>
                            <a:srgbClr val="000000"/>
                          </a:solidFill>
                          <a:latin typeface="Calibri"/>
                          <a:ea typeface="Geneva"/>
                        </a:rPr>
                        <a:t>to facilitate student investigations of the legal and ethical issues related to technology and socie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Establish standards for student behavior that are designed to ensure academic integrity and appropriate use of the Internet and online written communication; teach students that copyright laws are created for a reas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36"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F. The online teacher is cognizant of the diversity of student academic needs and incorporates accommodations into the online environ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Legal mandates stipulated by the Americans with Disabilities Act (ADA), the Individuals with Disabilities Education Act (IDEA), the Assistive Technology Act, and Section 508 or other similar guidelines/requirements for accessi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7f7f7f"/>
                          </a:solidFill>
                          <a:latin typeface="Calibri"/>
                          <a:ea typeface="Geneva"/>
                        </a:rPr>
                        <a:t>Monitor student progress and apply activities and tools that are relevant to the needs of all students, including those with learning or physical disabilities, in collaboration with appropriate staff or resour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38"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F. The online teacher is cognizant of the diversity of student academic needs and incorporates accommodations into the online environ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Appropriate tools and technologies to make accommodations to meet student need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How adaptive/assistive technologies are used to help people who have disabilities gain access to information that might otherwise be inaccessibl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Use appropriate tools and technologies to make accommodations meet student need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ea typeface="Geneva"/>
                        </a:rPr>
                        <a:t>  </a:t>
                      </a:r>
                      <a:r>
                        <a:rPr b="0" lang="en-US" sz="1800" spc="-1" strike="noStrike">
                          <a:solidFill>
                            <a:srgbClr val="000000"/>
                          </a:solidFill>
                          <a:latin typeface="Calibri"/>
                          <a:ea typeface="Geneva"/>
                        </a:rPr>
                        <a:t>Apply adaptive and assistive technologies into the online classroom where appropriate in the instruction to meet student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40" name=""/>
          <p:cNvGraphicFramePr/>
          <p:nvPr/>
        </p:nvGraphicFramePr>
        <p:xfrm>
          <a:off x="457200" y="2422440"/>
          <a:ext cx="8229600" cy="42163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F. The online teacher is cognizant of the diversity of student academic needs and incorporates accommodations into the online environ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526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process for connecting with local support personnel to verify student's IEP requirements or 504 accommodations needed for student succes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diversity of student learning needs, languages, and backgrou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Communicate with the appropriate school staff regarding specific accommodations, modifications, or needs as listed in a student's IEP or 504 accommodations, and work in collaboration with others to address student need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ea typeface="Geneva"/>
                        </a:rPr>
                        <a:t>  </a:t>
                      </a:r>
                      <a:r>
                        <a:rPr b="0" lang="en-US" sz="1800" spc="-1" strike="noStrike">
                          <a:solidFill>
                            <a:srgbClr val="000000"/>
                          </a:solidFill>
                          <a:latin typeface="Calibri"/>
                          <a:ea typeface="Geneva"/>
                        </a:rPr>
                        <a:t>Demonstrate awareness of different learning preferences, diversity, and universal design princip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7251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Background of Teaching Standards</a:t>
            </a:r>
            <a:endParaRPr b="0" lang="en-US" sz="4400" spc="-1" strike="noStrike">
              <a:solidFill>
                <a:srgbClr val="000000"/>
              </a:solidFill>
              <a:latin typeface="Arial"/>
            </a:endParaRPr>
          </a:p>
        </p:txBody>
      </p:sp>
      <p:sp>
        <p:nvSpPr>
          <p:cNvPr id="202" name=""/>
          <p:cNvSpPr txBox="1"/>
          <p:nvPr/>
        </p:nvSpPr>
        <p:spPr>
          <a:xfrm>
            <a:off x="457200" y="3457080"/>
            <a:ext cx="8229600" cy="262908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iNACOL National Standards for Quality Online Teaching were first created in 2008</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Adapted from the SREB Standard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42"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G. The online teacher demonstrates competencies in creating and implementing assessments in online learning environments in ways that ensure validity and reliability of the assessment instruments and proced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Multiple strategies for ensuring the security of online student assessments, academic integrity, and assessment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Implement a variety of assessments that ensure the security of student assessment data and accurate measures of student 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44"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H. The online teacher develops and delivers assessments, projects, and assignments that meet standards-based learning goals and assesses learning progress by measuring student achievement of the learning go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process of continuous evaluation of students to include </a:t>
                      </a:r>
                      <a:r>
                        <a:rPr b="0" lang="en-US" sz="1800" spc="-1" strike="noStrike">
                          <a:solidFill>
                            <a:srgbClr val="ff0000"/>
                          </a:solidFill>
                          <a:latin typeface="Calibri"/>
                          <a:ea typeface="Geneva"/>
                        </a:rPr>
                        <a:t>formative and summative </a:t>
                      </a:r>
                      <a:r>
                        <a:rPr b="0" lang="en-US" sz="1800" spc="-1" strike="noStrike">
                          <a:solidFill>
                            <a:srgbClr val="000000"/>
                          </a:solidFill>
                          <a:latin typeface="Calibri"/>
                          <a:ea typeface="Geneva"/>
                        </a:rPr>
                        <a:t>assessments and student feedback, including polls and surveys that reflect student learning progress throughout the cour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Create or select and implement a variety </a:t>
                      </a:r>
                      <a:r>
                        <a:rPr b="0" lang="en-US" sz="1800" spc="-1" strike="noStrike">
                          <a:solidFill>
                            <a:srgbClr val="ff0000"/>
                          </a:solidFill>
                          <a:latin typeface="Calibri"/>
                          <a:ea typeface="Geneva"/>
                        </a:rPr>
                        <a:t>of formative and summative </a:t>
                      </a:r>
                      <a:r>
                        <a:rPr b="0" lang="en-US" sz="1800" spc="-1" strike="noStrike">
                          <a:solidFill>
                            <a:srgbClr val="000000"/>
                          </a:solidFill>
                          <a:latin typeface="Calibri"/>
                          <a:ea typeface="Geneva"/>
                        </a:rPr>
                        <a:t>assessments that assess student learning progress and utilize student feedback to improve the online learning experi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46"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I. The online teacher demonstrates competency in using data from assessments and other data sources to modify content and to guide student learning.</a:t>
                      </a: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echniques to plan individualized instruction, incorporating student dat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How instruction is based on assessment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Use student data to plan instruction</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Customize instruction, based on assessment data, in order to personalize the learning experience per student needs and perform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48"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I. The online teacher demonstrates competency in using data from assessments and other data sources to modify content and to guide student learning.</a:t>
                      </a: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Effective time management strategi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Online course management ta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Provide consistent feedback and course materials in a timely manner, and use online tool functionality to improve instructional efficiency</a:t>
                      </a:r>
                      <a:endParaRPr b="0" lang="en-US" sz="1800" spc="-1" strike="noStrike">
                        <a:solidFill>
                          <a:srgbClr val="000000"/>
                        </a:solidFill>
                        <a:latin typeface="Arial"/>
                      </a:endParaRPr>
                    </a:p>
                    <a:p>
                      <a:pPr lvl="1" marL="457200">
                        <a:lnSpc>
                          <a:spcPct val="100000"/>
                        </a:lnSpc>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600" spc="-1" strike="noStrike">
                          <a:solidFill>
                            <a:srgbClr val="7f7f7f"/>
                          </a:solidFill>
                          <a:latin typeface="Calibri"/>
                          <a:ea typeface="Geneva"/>
                        </a:rPr>
                        <a:t> </a:t>
                      </a: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rack student enrollments, communication logs, attendance records, e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50"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J. The online teacher interacts in a professional, effective manner with colleagues, parents, and other members of the community to support students' suc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need for professional activity and collaboration beyond school (e.g., professional learning communities) to update academic skills and knowledge and collaborate with other educator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need to coordinate learning experiences with adult professionals (e.g., parents, local school contacts, mentors) to support student lear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Engage in professional development activities and collaboration beyond school</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Provide ongoing communication with parents or guardians concerning student lear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52"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K. The online teacher arranges media and content to help students and teachers transfer knowledge most effectively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online teacher knows and understands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Critical digital literacies and 21st century skill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Appropriate use of technologies to enhance lear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7251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Why create the standards and why do they need to be updated?</a:t>
            </a:r>
            <a:endParaRPr b="0" lang="en-US" sz="3600" spc="-1" strike="noStrike">
              <a:solidFill>
                <a:srgbClr val="000000"/>
              </a:solidFill>
              <a:latin typeface="Arial"/>
            </a:endParaRPr>
          </a:p>
        </p:txBody>
      </p:sp>
      <p:sp>
        <p:nvSpPr>
          <p:cNvPr id="204" name=""/>
          <p:cNvSpPr txBox="1"/>
          <p:nvPr/>
        </p:nvSpPr>
        <p:spPr>
          <a:xfrm>
            <a:off x="457200" y="3304800"/>
            <a:ext cx="8229600" cy="26290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hanging field of Online Te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onsideration of blended learning environ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pdating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339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Overview of Standards Refresh Process</a:t>
            </a:r>
            <a:endParaRPr b="0" lang="en-US" sz="4400" spc="-1" strike="noStrike">
              <a:solidFill>
                <a:srgbClr val="000000"/>
              </a:solidFill>
              <a:latin typeface="Arial"/>
            </a:endParaRPr>
          </a:p>
        </p:txBody>
      </p:sp>
      <p:sp>
        <p:nvSpPr>
          <p:cNvPr id="206" name=""/>
          <p:cNvSpPr txBox="1"/>
          <p:nvPr/>
        </p:nvSpPr>
        <p:spPr>
          <a:xfrm>
            <a:off x="457200" y="3009960"/>
            <a:ext cx="8229600" cy="330984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rmed Committe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Met regularly</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Each standard was discussed thoroughly</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ollaboration via Google doc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urvey of iNACOL Membership and experts in the fiel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847600" y="674640"/>
            <a:ext cx="6296040" cy="6336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 Online Teacher IS …</a:t>
            </a:r>
            <a:endParaRPr b="0" lang="en-US" sz="3200" spc="-1" strike="noStrike">
              <a:solidFill>
                <a:srgbClr val="000000"/>
              </a:solidFill>
              <a:latin typeface="Arial"/>
            </a:endParaRPr>
          </a:p>
        </p:txBody>
      </p:sp>
      <p:sp>
        <p:nvSpPr>
          <p:cNvPr id="208" name="TextBox 3"/>
          <p:cNvSpPr/>
          <p:nvPr/>
        </p:nvSpPr>
        <p:spPr>
          <a:xfrm>
            <a:off x="301680" y="1353960"/>
            <a:ext cx="116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UN</a:t>
            </a:r>
            <a:endParaRPr b="0" lang="en-US" sz="1800" spc="-1" strike="noStrike">
              <a:solidFill>
                <a:srgbClr val="000000"/>
              </a:solidFill>
              <a:latin typeface="Arial"/>
            </a:endParaRPr>
          </a:p>
        </p:txBody>
      </p:sp>
      <p:sp>
        <p:nvSpPr>
          <p:cNvPr id="209" name="TextBox 5"/>
          <p:cNvSpPr/>
          <p:nvPr/>
        </p:nvSpPr>
        <p:spPr>
          <a:xfrm>
            <a:off x="6804000" y="1308240"/>
            <a:ext cx="225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VERB/ADJECTIVE</a:t>
            </a:r>
            <a:endParaRPr b="0" lang="en-US" sz="1800" spc="-1" strike="noStrike">
              <a:solidFill>
                <a:srgbClr val="000000"/>
              </a:solidFill>
              <a:latin typeface="Arial"/>
            </a:endParaRPr>
          </a:p>
        </p:txBody>
      </p:sp>
      <p:sp>
        <p:nvSpPr>
          <p:cNvPr id="210" name="Rectangle 6"/>
          <p:cNvSpPr/>
          <p:nvPr/>
        </p:nvSpPr>
        <p:spPr>
          <a:xfrm>
            <a:off x="0" y="1677960"/>
            <a:ext cx="9144000" cy="446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160" bIns="-2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1" name="Rectangle 7"/>
          <p:cNvSpPr/>
          <p:nvPr/>
        </p:nvSpPr>
        <p:spPr>
          <a:xfrm>
            <a:off x="4525920" y="1722600"/>
            <a:ext cx="46080" cy="5135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Rectangle 8"/>
          <p:cNvSpPr/>
          <p:nvPr/>
        </p:nvSpPr>
        <p:spPr>
          <a:xfrm>
            <a:off x="14400" y="5105520"/>
            <a:ext cx="91440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14" name=""/>
          <p:cNvGraphicFramePr/>
          <p:nvPr/>
        </p:nvGraphicFramePr>
        <p:xfrm>
          <a:off x="457200" y="2422440"/>
          <a:ext cx="8229600" cy="2651040"/>
        </p:xfrm>
        <a:graphic>
          <a:graphicData uri="http://schemas.openxmlformats.org/drawingml/2006/table">
            <a:tbl>
              <a:tblPr/>
              <a:tblGrid>
                <a:gridCol w="4114800"/>
                <a:gridCol w="4114800"/>
              </a:tblGrid>
              <a:tr h="91476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C. The online teacher plans, designs, and incorporates strategies to encourage active learning, interaction, participation, and collaboration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37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Teacher Knowledge and Understanding</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The online teacher knows and understands techniques to create an environment that will engage, welcome, and reach each individual learn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Teacher Abilities</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The online teacher is able to apply strategies for engagement in online learning environments, e.g., asking questions to stimulate discu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16" name=""/>
          <p:cNvGraphicFramePr/>
          <p:nvPr/>
        </p:nvGraphicFramePr>
        <p:xfrm>
          <a:off x="457200" y="2422440"/>
          <a:ext cx="8229600" cy="3200400"/>
        </p:xfrm>
        <a:graphic>
          <a:graphicData uri="http://schemas.openxmlformats.org/drawingml/2006/table">
            <a:tbl>
              <a:tblPr/>
              <a:tblGrid>
                <a:gridCol w="4114800"/>
                <a:gridCol w="4114800"/>
              </a:tblGrid>
              <a:tr h="916920">
                <a:tc grid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B. The online teacher understands and is able to use a range of technologies, both existing and emerging, that effectively support student learning and engagement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eacher Knowledge and Understanding</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7f7f7f"/>
                          </a:solidFill>
                          <a:latin typeface="Calibri"/>
                          <a:ea typeface="Geneva"/>
                        </a:rPr>
                        <a:t>The online teacher knows and understands the need to continuously update their knowledge and skills for using the evolving technology tools that support online learning</a:t>
                      </a:r>
                      <a:endParaRPr b="0" lang="en-US" sz="1800" spc="-1" strike="noStrike">
                        <a:solidFill>
                          <a:srgbClr val="000000"/>
                        </a:solidFill>
                        <a:latin typeface="Arial"/>
                      </a:endParaRPr>
                    </a:p>
                    <a:p>
                      <a:pPr lvl="1" marL="457200">
                        <a:lnSpc>
                          <a:spcPct val="100000"/>
                        </a:lnSpc>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eacher Abilities</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The online teacher is able to identify</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and explore new tools and test their</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applicability to their content areas and stud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18" name=""/>
          <p:cNvGraphicFramePr/>
          <p:nvPr/>
        </p:nvGraphicFramePr>
        <p:xfrm>
          <a:off x="457200" y="2422440"/>
          <a:ext cx="8229600" cy="4419720"/>
        </p:xfrm>
        <a:graphic>
          <a:graphicData uri="http://schemas.openxmlformats.org/drawingml/2006/table">
            <a:tbl>
              <a:tblPr/>
              <a:tblGrid>
                <a:gridCol w="4114800"/>
                <a:gridCol w="4114800"/>
              </a:tblGrid>
              <a:tr h="916920">
                <a:tc grid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A. The online teacher knows the primary concepts and structures of effective online instruction and is able to create learning experiences to enable student success .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50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ff0000"/>
                          </a:solidFill>
                          <a:latin typeface="Calibri"/>
                          <a:ea typeface="Geneva"/>
                        </a:rPr>
                        <a:t>The current best practices and strategies </a:t>
                      </a:r>
                      <a:r>
                        <a:rPr b="0" lang="en-US" sz="1600" spc="-1" strike="noStrike">
                          <a:solidFill>
                            <a:srgbClr val="000000"/>
                          </a:solidFill>
                          <a:latin typeface="Calibri"/>
                          <a:ea typeface="Geneva"/>
                        </a:rPr>
                        <a:t>for online teaching and learning and their implementation in online educati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ff0000"/>
                          </a:solidFill>
                          <a:latin typeface="Calibri"/>
                          <a:ea typeface="Geneva"/>
                        </a:rPr>
                        <a:t>The role of online learning in preparing students</a:t>
                      </a:r>
                      <a:r>
                        <a:rPr b="0" lang="en-US" sz="1600" spc="-1" strike="noStrike">
                          <a:solidFill>
                            <a:srgbClr val="000000"/>
                          </a:solidFill>
                          <a:latin typeface="Calibri"/>
                          <a:ea typeface="Geneva"/>
                        </a:rPr>
                        <a:t> for the global community they live in, both now and in the future.</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ff0000"/>
                          </a:solidFill>
                          <a:latin typeface="Calibri"/>
                          <a:ea typeface="Geneva"/>
                        </a:rPr>
                        <a:t>The instructional delivery continuum </a:t>
                      </a:r>
                      <a:r>
                        <a:rPr b="0" lang="en-US" sz="1600" spc="-1" strike="noStrike">
                          <a:solidFill>
                            <a:srgbClr val="000000"/>
                          </a:solidFill>
                          <a:latin typeface="Calibri"/>
                          <a:ea typeface="Geneva"/>
                        </a:rPr>
                        <a:t>(e.g., fully online to blended to face-to-fa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0000"/>
                          </a:solidFill>
                          <a:latin typeface="Calibri"/>
                          <a:ea typeface="Geneva"/>
                        </a:rPr>
                        <a:t> </a:t>
                      </a:r>
                      <a:r>
                        <a:rPr b="0" lang="en-US" sz="1600" spc="-1" strike="noStrike">
                          <a:solidFill>
                            <a:srgbClr val="ff0000"/>
                          </a:solidFill>
                          <a:latin typeface="Calibri"/>
                          <a:ea typeface="Geneva"/>
                        </a:rPr>
                        <a:t>Apply the current best practices and strategies </a:t>
                      </a:r>
                      <a:r>
                        <a:rPr b="0" lang="en-US" sz="1600" spc="-1" strike="noStrike">
                          <a:solidFill>
                            <a:srgbClr val="000000"/>
                          </a:solidFill>
                          <a:latin typeface="Calibri"/>
                          <a:ea typeface="Geneva"/>
                        </a:rPr>
                        <a:t>in online teaching to create rich and meaningful experiences for students.</a:t>
                      </a:r>
                      <a:endParaRPr b="0" lang="en-US" sz="1600" spc="-1" strike="noStrike">
                        <a:solidFill>
                          <a:srgbClr val="000000"/>
                        </a:solidFill>
                        <a:latin typeface="Arial"/>
                      </a:endParaRPr>
                    </a:p>
                    <a:p>
                      <a:pPr lvl="1" marL="457200">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0000"/>
                          </a:solidFill>
                          <a:latin typeface="Calibri"/>
                          <a:ea typeface="Geneva"/>
                        </a:rPr>
                        <a:t> </a:t>
                      </a:r>
                      <a:r>
                        <a:rPr b="0" lang="en-US" sz="1600" spc="-1" strike="noStrike">
                          <a:solidFill>
                            <a:srgbClr val="ff0000"/>
                          </a:solidFill>
                          <a:latin typeface="Calibri"/>
                          <a:ea typeface="Geneva"/>
                        </a:rPr>
                        <a:t>Build learner capacity for collaboration </a:t>
                      </a:r>
                      <a:r>
                        <a:rPr b="0" lang="en-US" sz="1600" spc="-1" strike="noStrike">
                          <a:solidFill>
                            <a:srgbClr val="000000"/>
                          </a:solidFill>
                          <a:latin typeface="Calibri"/>
                          <a:ea typeface="Geneva"/>
                        </a:rPr>
                        <a:t>in face-to-face, blended, and online environments and encourages students to participate as global citizens .</a:t>
                      </a:r>
                      <a:endParaRPr b="0" lang="en-US" sz="1600" spc="-1" strike="noStrike">
                        <a:solidFill>
                          <a:srgbClr val="000000"/>
                        </a:solidFill>
                        <a:latin typeface="Arial"/>
                      </a:endParaRPr>
                    </a:p>
                    <a:p>
                      <a:pPr lvl="1" marL="457200">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0000"/>
                          </a:solidFill>
                          <a:latin typeface="Calibri"/>
                          <a:ea typeface="Geneva"/>
                        </a:rPr>
                        <a:t> </a:t>
                      </a:r>
                      <a:r>
                        <a:rPr b="0" lang="en-US" sz="1600" spc="-1" strike="noStrike">
                          <a:solidFill>
                            <a:srgbClr val="ff0000"/>
                          </a:solidFill>
                          <a:latin typeface="Calibri"/>
                          <a:ea typeface="Geneva"/>
                        </a:rPr>
                        <a:t>Construct </a:t>
                      </a:r>
                      <a:r>
                        <a:rPr b="0" lang="en-US" sz="1600" spc="-1" strike="noStrike">
                          <a:solidFill>
                            <a:srgbClr val="000000"/>
                          </a:solidFill>
                          <a:latin typeface="Calibri"/>
                          <a:ea typeface="Geneva"/>
                        </a:rPr>
                        <a:t>flexible, digital, and interactive </a:t>
                      </a:r>
                      <a:r>
                        <a:rPr b="0" lang="en-US" sz="1600" spc="-1" strike="noStrike">
                          <a:solidFill>
                            <a:srgbClr val="ff0000"/>
                          </a:solidFill>
                          <a:latin typeface="Calibri"/>
                          <a:ea typeface="Geneva"/>
                        </a:rPr>
                        <a:t>learning experiences</a:t>
                      </a:r>
                      <a:r>
                        <a:rPr b="0" lang="en-US" sz="1600" spc="-1" strike="noStrike">
                          <a:solidFill>
                            <a:srgbClr val="000000"/>
                          </a:solidFill>
                          <a:latin typeface="Calibri"/>
                          <a:ea typeface="Geneva"/>
                        </a:rPr>
                        <a:t> that are useful in a </a:t>
                      </a:r>
                      <a:r>
                        <a:rPr b="0" lang="en-US" sz="1600" spc="-1" strike="noStrike">
                          <a:solidFill>
                            <a:srgbClr val="ff0000"/>
                          </a:solidFill>
                          <a:latin typeface="Calibri"/>
                          <a:ea typeface="Geneva"/>
                        </a:rPr>
                        <a:t>variety of delivery modes</a:t>
                      </a:r>
                      <a:r>
                        <a:rPr b="0" lang="en-US" sz="1600" spc="-1" strike="noStrike">
                          <a:solidFill>
                            <a:srgbClr val="000000"/>
                          </a:solidFill>
                          <a:latin typeface="Calibri"/>
                          <a:ea typeface="Geneva"/>
                        </a:rPr>
                        <a:t>. </a:t>
                      </a:r>
                      <a:r>
                        <a:rPr b="0" i="1" lang="en-US" sz="1600" spc="-1" strike="noStrike">
                          <a:solidFill>
                            <a:srgbClr val="000000"/>
                          </a:solidFill>
                          <a:latin typeface="Calibri"/>
                          <a:ea typeface="Geneva"/>
                        </a:rPr>
                        <a:t>This standard can only be evaluated in the context of instructor(s) having the ability to modify the cour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20"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B. The online teacher understands and is able </a:t>
                      </a:r>
                      <a:r>
                        <a:rPr b="1" lang="en-US" sz="1800" spc="-1" strike="noStrike" u="sng">
                          <a:solidFill>
                            <a:srgbClr val="ffffff"/>
                          </a:solidFill>
                          <a:uFillTx/>
                          <a:latin typeface="Calibri"/>
                        </a:rPr>
                        <a:t>to use a range of technologies, both existing and emerging</a:t>
                      </a:r>
                      <a:r>
                        <a:rPr b="1" lang="en-US" sz="1800" spc="-1" strike="noStrike">
                          <a:solidFill>
                            <a:srgbClr val="ffffff"/>
                          </a:solidFill>
                          <a:latin typeface="Calibri"/>
                        </a:rPr>
                        <a:t>, that effectively </a:t>
                      </a:r>
                      <a:r>
                        <a:rPr b="1" lang="en-US" sz="1800" spc="-1" strike="noStrike" u="sng">
                          <a:solidFill>
                            <a:srgbClr val="ffffff"/>
                          </a:solidFill>
                          <a:uFillTx/>
                          <a:latin typeface="Calibri"/>
                        </a:rPr>
                        <a:t>support student learning and engagement</a:t>
                      </a:r>
                      <a:r>
                        <a:rPr b="1" lang="en-US" sz="1800" spc="-1" strike="noStrike">
                          <a:solidFill>
                            <a:srgbClr val="ffffff"/>
                          </a:solidFill>
                          <a:latin typeface="Calibri"/>
                        </a:rPr>
                        <a:t>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000000"/>
                          </a:solidFill>
                          <a:latin typeface="Calibri"/>
                          <a:ea typeface="Geneva"/>
                        </a:rPr>
                        <a:t>The </a:t>
                      </a:r>
                      <a:r>
                        <a:rPr b="0" lang="en-US" sz="1600" spc="-1" strike="noStrike">
                          <a:solidFill>
                            <a:srgbClr val="ff0000"/>
                          </a:solidFill>
                          <a:latin typeface="Calibri"/>
                          <a:ea typeface="Geneva"/>
                        </a:rPr>
                        <a:t>use of an array of grade-appropriate online tools </a:t>
                      </a:r>
                      <a:r>
                        <a:rPr b="0" lang="en-US" sz="1600" spc="-1" strike="noStrike">
                          <a:solidFill>
                            <a:srgbClr val="000000"/>
                          </a:solidFill>
                          <a:latin typeface="Calibri"/>
                          <a:ea typeface="Geneva"/>
                        </a:rPr>
                        <a:t>for communication, productivity, collaboration, analysis,  presentation,  research, and content delivery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ff0000"/>
                          </a:solidFill>
                          <a:latin typeface="Calibri"/>
                          <a:ea typeface="Geneva"/>
                        </a:rPr>
                        <a:t>The use of emerging technologies </a:t>
                      </a:r>
                      <a:r>
                        <a:rPr b="0" lang="en-US" sz="1600" spc="-1" strike="noStrike">
                          <a:solidFill>
                            <a:srgbClr val="000000"/>
                          </a:solidFill>
                          <a:latin typeface="Calibri"/>
                          <a:ea typeface="Geneva"/>
                        </a:rPr>
                        <a:t>in a variety of mediums for teaching and learning, based on student need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000000"/>
                          </a:solidFill>
                          <a:latin typeface="Calibri"/>
                          <a:ea typeface="Geneva"/>
                        </a:rPr>
                        <a:t>The </a:t>
                      </a:r>
                      <a:r>
                        <a:rPr b="0" lang="en-US" sz="1600" spc="-1" strike="noStrike">
                          <a:solidFill>
                            <a:srgbClr val="ff0000"/>
                          </a:solidFill>
                          <a:latin typeface="Calibri"/>
                          <a:ea typeface="Geneva"/>
                        </a:rPr>
                        <a:t>importance of interaction </a:t>
                      </a:r>
                      <a:r>
                        <a:rPr b="0" lang="en-US" sz="1600" spc="-1" strike="noStrike">
                          <a:solidFill>
                            <a:srgbClr val="000000"/>
                          </a:solidFill>
                          <a:latin typeface="Calibri"/>
                          <a:ea typeface="Geneva"/>
                        </a:rPr>
                        <a:t>in an online course and </a:t>
                      </a:r>
                      <a:r>
                        <a:rPr b="0" lang="en-US" sz="1600" spc="-1" strike="noStrike">
                          <a:solidFill>
                            <a:srgbClr val="ff0000"/>
                          </a:solidFill>
                          <a:latin typeface="Calibri"/>
                          <a:ea typeface="Geneva"/>
                        </a:rPr>
                        <a:t>the role of varied communication tools in supporting interac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000000"/>
                          </a:solidFill>
                          <a:latin typeface="Calibri"/>
                          <a:ea typeface="Geneva"/>
                        </a:rPr>
                        <a:t>Select and use a variety of online tools for communication, productivity, collaboration, analysis, presentation, research, and online content delivery as appropriate to the content area and student need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000000"/>
                          </a:solidFill>
                          <a:latin typeface="Calibri"/>
                          <a:ea typeface="Geneva"/>
                        </a:rPr>
                        <a:t>Effectively use and incorporate subject-specific and developmentally appropriate technologies, tools, and resources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000000"/>
                          </a:solidFill>
                          <a:latin typeface="Calibri"/>
                          <a:ea typeface="Geneva"/>
                        </a:rPr>
                        <a:t>Use communication technologies in a variety of mediums and contexts for teaching and learnin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7T20:17:34Z</dcterms:created>
  <dc:creator>Matt Wicks</dc:creator>
  <dc:description/>
  <dc:language>en-US</dc:language>
  <cp:lastModifiedBy>Kirsten Peterson</cp:lastModifiedBy>
  <dcterms:modified xsi:type="dcterms:W3CDTF">2011-11-09T14:25:11Z</dcterms:modified>
  <cp:revision>45</cp:revision>
  <dc:subject/>
  <dc:title>Slide 1</dc:title>
</cp:coreProperties>
</file>